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419-9744-4D2B-927E-914E13EA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732-120F-4B80-981D-CD90DC16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2090-20F9-4B53-B9FA-E06640BD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9BB-BF38-40CB-8E5B-94783C5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A05-7F3D-4978-92FA-F587175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2A0-0682-4640-AE54-F5C2ACDD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FCA-83CB-4886-BBFD-19FB8D4C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C54-FBFF-4DE2-A379-2F6DCD3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7DB-275F-4279-A5EC-38D28BE0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11C-C916-4C60-9BE3-5B49639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C02-9403-48D9-BA88-885A301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4E0-FDFC-47F2-B77A-FB24F8C7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337-C48D-4A3C-A074-E1D201E0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gyen a mi hangunk kedves illa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gyen olyan, mint egy áldozat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cséretünk töltse be templomoda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lleluját zengve boldogan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zent vagy, szent vagy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ndenható Urunk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zent vagy, szent vagy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ndenható Istenün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6:56:54Z</dcterms:created>
  <dc:creator>Baptista Gyülekezet</dc:creator>
  <dc:description/>
  <dc:language>en-US</dc:language>
  <cp:lastModifiedBy>Baptista Gyülekezet</cp:lastModifiedBy>
  <dcterms:modified xsi:type="dcterms:W3CDTF">2006-03-04T17:25:57Z</dcterms:modified>
  <cp:revision>2</cp:revision>
  <dc:subject/>
  <dc:title>Legyen a mi hangunk kedves illat, legyen olyan, mint egy áldozat. Dicséretünk töltse be templomodat, halleluját zengve boldogan! Szent vagy, szent vagy! Mindenható Urunk! Szent vagy, szent vagy! Mindenható Istenünk!</dc:title>
</cp:coreProperties>
</file>